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80AF5-0206-4CC2-A69A-943BFB8F5370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29B-521A-4F8F-A846-DFB287F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C6B-E558-4382-80F2-1AFCAC49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08D-5221-46B9-8FF0-32CE2F9F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2ED-CB3A-46ED-9093-F19D2075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BE-8158-4D34-9F5C-9B650AA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E7C-3DEC-401A-875D-BD1010DC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93C-A0DD-4353-88A6-8EA34E9F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B92-D59C-49D0-AF2D-0208C6B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E2E-2395-4880-AE95-F720ABC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A12-8E07-49B2-B3AD-65B1BE9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DEF-FE3A-46B2-8338-9A88CD18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D1A-E553-44C1-8732-154E0B9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8C298-E7E4-4841-A93E-35E63BE1261E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uffman-kooda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95440" y="5354640"/>
            <a:ext cx="7056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enna Nyb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atri Vanhat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skari Anttal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Test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036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440000"/>
            <a:ext cx="9072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estauksessa mitattiin tiedoston koon pienemistä sekä pakkaamiseen kulunutta ai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480" y="2374920"/>
          <a:ext cx="9867600" cy="4951080"/>
        </p:xfrm>
        <a:graphic>
          <a:graphicData uri="http://schemas.openxmlformats.org/drawingml/2006/table">
            <a:tbl>
              <a:tblPr/>
              <a:tblGrid>
                <a:gridCol w="1290600"/>
                <a:gridCol w="1484280"/>
                <a:gridCol w="1133280"/>
                <a:gridCol w="1895760"/>
                <a:gridCol w="2165040"/>
                <a:gridCol w="1898640"/>
              </a:tblGrid>
              <a:tr h="1460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Ni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lkuperäinen ko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kattu ko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Koko alkuperäisestä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kkausalgoritmin käyttämä a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i-FI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Kokonaisa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4d1"/>
                    </a:solidFill>
                  </a:tcPr>
                </a:tc>
              </a:tr>
              <a:tr h="6433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NA3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2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NA4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5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33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NA1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4 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33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NA2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 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3 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72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1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 s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Tehtävän kuv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uffman-koodaus on menetelmä, jota käytetään erittäin yleisesti datan tiivistämise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sim. ZIP, MP3, JPEG, MPE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ehtävässä oli tarkoituksena toteuttaa ohjelma, jolla voi pakata ja purkaa tekstitiedost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Huffman-koodauksen vai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1280" y="4282920"/>
            <a:ext cx="7056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Esiintymien laske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25800" y="1968480"/>
            <a:ext cx="5862600" cy="4286160"/>
            <a:chOff x="2125800" y="1968480"/>
            <a:chExt cx="5862600" cy="42861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125800" y="1968480"/>
              <a:ext cx="58626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125800" y="1968480"/>
              <a:ext cx="58626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Puun rakent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25800" y="2046240"/>
            <a:ext cx="6253200" cy="4286160"/>
            <a:chOff x="2125800" y="2046240"/>
            <a:chExt cx="6253200" cy="428616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2125800" y="2046240"/>
              <a:ext cx="625320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125800" y="2046240"/>
              <a:ext cx="625320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Merkkien kood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654200" y="1574640"/>
            <a:ext cx="6897600" cy="5040360"/>
            <a:chOff x="1654200" y="1574640"/>
            <a:chExt cx="6897600" cy="50403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654200" y="1574640"/>
              <a:ext cx="689760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654200" y="1574640"/>
              <a:ext cx="689760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Pakk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03480" y="1654200"/>
            <a:ext cx="7221240" cy="5276880"/>
            <a:chOff x="1203480" y="1654200"/>
            <a:chExt cx="7221240" cy="52768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203480" y="1654200"/>
              <a:ext cx="7221240" cy="52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03480" y="1654200"/>
              <a:ext cx="722124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Luok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0360"/>
            <a:ext cx="907236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MS Gothic"/>
              </a:rPr>
              <a:t>Yksittäistä puun solmua mallintava luo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MS Gothic"/>
              </a:rPr>
              <a:t>Huffman-puuta mallintava luo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MS Gothic"/>
              </a:rPr>
              <a:t>Esiintymätaulun rakentamisesta ja itse pakkaamisesta huolehtiva luok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co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MS Gothic"/>
              </a:rPr>
              <a:t>Pakatun datan purkamisesta huolehtiva luok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il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MS Gothic"/>
              </a:rPr>
              <a:t>Tiedostojen lukemisesta ja kirjoittamisesta vastaava luok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Test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0360"/>
            <a:ext cx="9072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2876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estidatana käytettiin Moodlesta löytyviä DNA-jonoja sekä sanaston pohjalta satunnaisesti generoitua teksti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360" y="2700360"/>
          <a:ext cx="10120320" cy="4552920"/>
        </p:xfrm>
        <a:graphic>
          <a:graphicData uri="http://schemas.openxmlformats.org/drawingml/2006/table">
            <a:tbl>
              <a:tblPr/>
              <a:tblGrid>
                <a:gridCol w="3414960"/>
                <a:gridCol w="3424320"/>
                <a:gridCol w="3281040"/>
              </a:tblGrid>
              <a:tr h="42660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d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yp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24416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A3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n merkit A, C, G ja T sekä isoina että pieninä. Merkit ovat 50 merkkiä pitkinä riveinä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2732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A4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a kuin yll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2660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A1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 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a kuin yll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2696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A2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 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a kuin yll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01280"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1.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6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Text Generatorilla luotua englannin kielistä tekstiä. Sanastolähteenä käytetty raamatt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06:28Z</dcterms:created>
  <dc:creator>Oskari Anttalainen</dc:creator>
  <dc:description/>
  <dc:language>en-US</dc:language>
  <cp:lastModifiedBy>Oskari Anttalainen</cp:lastModifiedBy>
  <dcterms:modified xsi:type="dcterms:W3CDTF">2010-03-19T11:54:53Z</dcterms:modified>
  <cp:revision>1</cp:revision>
  <dc:subject/>
  <dc:title/>
</cp:coreProperties>
</file>