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5F1-32A1-45B3-BEC2-046745F7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892-7B8F-4C0A-82AC-F3CD591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E4F-F014-4D5B-A9DB-C5A65624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094-2689-47C8-9F7D-1EEA2A5A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984-F95A-4CB4-B59E-BB11D41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BC3-2B4A-4DED-AC50-67304C62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1A1-CBF4-451B-B650-EA961CB6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73A-DE55-4FE1-B1C5-DD19101E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CFB-FE7F-4AA0-8680-6E82494C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C42-DF1C-46FF-A76B-E33450B7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EA3-B6B5-4490-BFA4-9410E761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64C-C2C4-42EA-9609-9B0186CF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47C1-C1B7-4F7C-8841-53AB273532D8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"/>
          <a:stretch/>
        </p:blipFill>
        <p:spPr>
          <a:xfrm>
            <a:off x="453960" y="539640"/>
            <a:ext cx="891540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"/>
          <a:stretch/>
        </p:blipFill>
        <p:spPr>
          <a:xfrm>
            <a:off x="453960" y="539640"/>
            <a:ext cx="88963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"/>
          <a:stretch/>
        </p:blipFill>
        <p:spPr>
          <a:xfrm>
            <a:off x="453960" y="539640"/>
            <a:ext cx="88963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"/>
          <a:stretch/>
        </p:blipFill>
        <p:spPr>
          <a:xfrm>
            <a:off x="453960" y="539640"/>
            <a:ext cx="889632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"/>
          <a:stretch/>
        </p:blipFill>
        <p:spPr>
          <a:xfrm>
            <a:off x="453960" y="539640"/>
            <a:ext cx="8906040" cy="611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7:13Z</dcterms:created>
  <dc:creator>Oskari Anttalainen</dc:creator>
  <dc:description/>
  <dc:language>en-US</dc:language>
  <cp:lastModifiedBy>Oskari Anttalainen</cp:lastModifiedBy>
  <dcterms:modified xsi:type="dcterms:W3CDTF">2010-01-26T15:32:50Z</dcterms:modified>
  <cp:revision>2</cp:revision>
  <dc:subject/>
  <dc:title/>
</cp:coreProperties>
</file>