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D3A-46D9-4B39-ABB9-088B5B1B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0E6-F04F-4E18-8E96-A44D675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1EF-2ABC-466B-8BDD-396844F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D09-6FDB-405E-830B-2A9259B2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CC3-1870-4599-86E4-7F35913D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3F-404F-4922-BA12-2193387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B44-AD8C-4F26-80AA-F76F1F7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0B4-E477-42FB-A3FF-4D4FC8A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C3F-88DE-480D-9919-113F3460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AFE-AC14-49D7-B961-5E250B1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FEE-249B-4283-9B84-4F712D74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D6E-7C0E-4C5E-AA03-DD8BF61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052-F7B0-46B0-BF8F-D9E900581CB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000000"/>
                </a:solidFill>
                <a:latin typeface="Calibri"/>
              </a:rPr>
              <a:t>Huffman-kooda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Jenna Nybl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atri Vanhata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kari Anttalai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3"/>
          <p:cNvSpPr/>
          <p:nvPr/>
        </p:nvSpPr>
        <p:spPr>
          <a:xfrm>
            <a:off x="142920" y="63579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ista uudell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Tall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puksi purettu teksti tallennetaan tiedost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ild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kentaa Huffman-puun esiintymätaulun pohja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Bit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kee jokaiselle merkille binäärikoodin puun pohja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avainnointi- ja muutosmetode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iittaukset edelliseen ja seuraav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BuildFrequency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Laskee merkkien esiintymät ja tekee niistä tauluk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uorittaa itse tekstin pakkaami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com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urkaa tiedostosta saatavan binäärikoodin puun avulla takaisin tekstik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File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Read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Lukee tavallista tekstitiedosto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Write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irjoittaa tavalliseen tekstitiedosto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ReadCom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Lukee pakattua tiedostoa bittitaso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WriteCom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irjoittaa pakattua dataa tiedostoon bittitaso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aveFrequency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allentaa puun esiintymätaulun tiedosto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LoadFrequency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Lataa puun esiintymätaulun tiedosto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  <a:ea typeface="MS Gothic"/>
              </a:rPr>
              <a:t>3. Luokat ja meto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457200" y="128592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User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Main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äävalik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Compression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akkaamisen valikk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akkaa tiedoston käyttäen siitä itsestään muodostettua pu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De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urkaa tiedos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CompressWithExisting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akkaa tiedoston käyttäen erikseen ladattavaa pu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Produce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  <a:ea typeface="MS Gothic"/>
              </a:rPr>
              <a:t>Tuottaa tiedostosta puun ja tallentaa 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Test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idatana käytetään tekstitiedostoja, jotka sisältävät DNA-jon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GTAGGCAGGGAGAAATGAACAAAATCAACATTGTGGGggaaggaggaaaggatgggtggaaagagggaaggggaggggaggggagggaagcaagaatga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itiedostot ovat noin 1,5Mt ja 16Mt kokoi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rataan pakatun ja pakkaamattoman tiedoston kokoer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5. Työnja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hjelma jaettiin kolmeen kokonaisuut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un muodostus, merkkien koodaus, puun tallentami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kkaaminen, purkaminen ja käyttöliittym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iedostojen luku ja kirjoitus ja esiintymien laskemi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Tehtävän kuv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uffman-koodaus on menetelmä, jota käytetään erittäin yleisesti datan tiivistämisess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sim. ZIP, MP3, JPEG, MPEG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htävässä on tarkoituksena toteuttaa ohjelma, jolla voi pakata ja purkaa tekstitiedost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142920" y="63579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ista uudell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siintymien perusteella rakennetaan Huffman-pu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siintymätaulukko käydään läpi lopusta alku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hdistetään aina kaksi vähiten esiintyvää merkkiä yhdeksi ja lasketaan niiden esiintymä yht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tynyt yhdistelmä lisätään esiintymätaulukkoon oikealle paikalleen ja yhdistety merkit poistetaan tauluk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Huffman-koodauksen vaih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12" descr="Movie3_0.jpg"/>
          <p:cNvPicPr/>
          <p:nvPr/>
        </p:nvPicPr>
        <p:blipFill>
          <a:blip r:embed="rId1"/>
          <a:stretch/>
        </p:blipFill>
        <p:spPr>
          <a:xfrm>
            <a:off x="1928880" y="1857240"/>
            <a:ext cx="5672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uun jokainen vasen haara merkitään 0:lla ja oikea haara 1:ll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okaiselle merkille voidaan näin puun avulla tehdä lyhyt binäärikoo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netusta tiedostosta lasketaan kunkin merkin esiintym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siintymät järjestetään suurimmasta pienimpää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ontent Placeholder 4" descr="merkkit_0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5788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42920" y="63579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ista uudell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dellisessä vaiheessa tehtyjen binäärikoodien perusteella teksti voidaan pak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pakkaaminen_0.jpg"/>
          <p:cNvPicPr/>
          <p:nvPr/>
        </p:nvPicPr>
        <p:blipFill>
          <a:blip r:embed="rId1"/>
          <a:stretch/>
        </p:blipFill>
        <p:spPr>
          <a:xfrm>
            <a:off x="1092240" y="1500120"/>
            <a:ext cx="6551640" cy="47865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142920" y="63579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Toista uudell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5. Tallent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akattu teksti voidaan tallentaa tiedost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urkamista varten myös puu on tallennett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Tiedoston lu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iedostosta luetaan pakattu teksti sekä Huffman-pu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uu kootaan uudell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akattu binäärimuotoinen teksti käydään läpi alusta loppuun ja muunnettaan se puun avulla takaisin tekstik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esiintyma_0.jpg"/>
          <p:cNvPicPr/>
          <p:nvPr/>
        </p:nvPicPr>
        <p:blipFill>
          <a:blip r:embed="rId1"/>
          <a:stretch/>
        </p:blipFill>
        <p:spPr>
          <a:xfrm>
            <a:off x="1928880" y="1785960"/>
            <a:ext cx="5317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2. Purk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Content Placeholder 4" descr="purkaminen_0.jpg"/>
          <p:cNvPicPr/>
          <p:nvPr/>
        </p:nvPicPr>
        <p:blipFill>
          <a:blip r:embed="rId1"/>
          <a:stretch/>
        </p:blipFill>
        <p:spPr>
          <a:xfrm>
            <a:off x="1714680" y="1428840"/>
            <a:ext cx="6210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9:47:00Z</dcterms:created>
  <dc:creator>Oskari Anttalainen</dc:creator>
  <dc:description/>
  <dc:language>en-US</dc:language>
  <cp:lastModifiedBy>Oskari Anttalainen</cp:lastModifiedBy>
  <dcterms:modified xsi:type="dcterms:W3CDTF">2010-02-02T18:53:16Z</dcterms:modified>
  <cp:revision>34</cp:revision>
  <dc:subject/>
  <dc:title>Slide 1</dc:title>
</cp:coreProperties>
</file>