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5FE-05BB-4B5D-867E-CAC0BB62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86F-3813-4B4D-A334-CB4EA0D1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0C5-6D36-4269-B03D-ECA56169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36F-84F3-46FA-9935-3FC93CA7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37F-6B82-433E-9218-13B4CF4C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1EC-8D8C-410D-A40F-BC350CE1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367-EAD9-4434-BB5C-6440F580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E4D-A6E9-4E0F-B0FA-AE748219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9BA-94CB-4647-B7DD-92562F20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EF3-F2E6-4EDE-AD03-B8315047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6B2-135D-4C8E-8CB1-0D5F96E4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D14-98D7-44F8-AA99-9B3D7D58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36A5-6A72-457F-932B-A92EDCBD2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91440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PROCESO DE LANZA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FifthAve"/>
              </a:rPr>
              <a:t>(Antes de cada vuelo, rara vez visto por el público en gener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3275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FifthAve"/>
              </a:rPr>
              <a:t>DEL DISCOVE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1762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antando el tan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90656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cohetes sólidos son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05092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motores son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6308640"/>
            <a:ext cx="820872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Los motores son conectados al Trasbor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498" t="0" r="50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84360" y="59500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 se prepara en la plataforma para dejar el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0948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 ha sido movido y será conectado al tanque ext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e del tanque externo desde Ba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4665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 ya conec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96984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ller de preparación de la carga (P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40360" y="227664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95640" y="321300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evo mó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77080" y="96984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rga útil se prepara para ser llevada a la plataforma de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382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rga sale de P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92360" y="5146560"/>
            <a:ext cx="5832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rga es llevada a la plataforma de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825480"/>
            <a:ext cx="21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antando la carga útil en la posición para su introducción en el Discovery cuando llegue a la plata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61545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discovery sale del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825480"/>
            <a:ext cx="22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, ya armado, en el tractor que lo transportará a l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4290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taforma de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71628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48360" y="2338560"/>
            <a:ext cx="24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cia: 2.5 K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empo: 6-8 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651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ficio de ensamble vertical (V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64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que ext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95640" y="39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 del 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82548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DISCOVERY llegando a la Plataforma de lanz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682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o para el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29700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bo Kennedy, dejando plataform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6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7542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Buena suerte tripulación. Los esperamos de regre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302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irando el tanque externo de su barco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4422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que entrando e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" y="404640"/>
            <a:ext cx="914544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593892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ación para colocar el tanque vertic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0:35Z</dcterms:created>
  <dc:creator>zxmulassy050</dc:creator>
  <dc:description/>
  <dc:language>en-US</dc:language>
  <cp:lastModifiedBy>cesar</cp:lastModifiedBy>
  <dcterms:modified xsi:type="dcterms:W3CDTF">2008-03-07T09:24:38Z</dcterms:modified>
  <cp:revision>39</cp:revision>
  <dc:subject/>
  <dc:title>Diapositive 1</dc:title>
</cp:coreProperties>
</file>