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9AEB-0281-45A3-A890-E4211EF58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291A-C742-4EBC-AEF3-97533CFC8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42DF-169F-49F8-8794-94A5D245D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8A12-1D5E-40E9-AD91-678FD42A6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5245-506E-4E5F-A14E-00E371ABF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A865-23D7-4BFD-9EF1-899FB9C2E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D101-4C1D-46F4-AE56-CEA0F2779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6AD7-6701-445F-A38E-EC68AF9DD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6E8D-2817-4BE6-9F2D-DF5713114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4798-45BD-424E-91A1-47E0E0A9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270E-CC66-4C68-A20D-B30435EF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7BFD-030A-4D69-86A6-487BFFDB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-914400"/>
            <a:ext cx="9142560" cy="11430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48940-445D-422F-B90E-00D0E32CD425}" type="slidenum"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3.xml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tmp/home/.config/libreoffice/4/user/gallery/KAMERA.WAV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KAMERA.WAV" TargetMode="External"/><Relationship Id="rId2" Type="http://schemas.openxmlformats.org/officeDocument/2006/relationships/hyperlink" Target="file:///tmp/home/.config/libreoffice/4/user/gallery/LASER.WAV" TargetMode="External"/><Relationship Id="rId3" Type="http://schemas.openxmlformats.org/officeDocument/2006/relationships/hyperlink" Target="file:///tmp/home/.config/libreoffice/4/user/gallery/LASER.WAV" TargetMode="External"/><Relationship Id="rId4" Type="http://schemas.openxmlformats.org/officeDocument/2006/relationships/hyperlink" Target="file:///tmp/home/.config/libreoffice/4/user/gallery/puhe.wav" TargetMode="External"/><Relationship Id="rId5" Type="http://schemas.openxmlformats.org/officeDocument/2006/relationships/hyperlink" Target="file:///tmp/home/.config/libreoffice/4/user/gallery/KAMERA.WAV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LASER.WAV" TargetMode="External"/><Relationship Id="rId2" Type="http://schemas.openxmlformats.org/officeDocument/2006/relationships/hyperlink" Target="file:///tmp/home/.config/libreoffice/4/user/gallery/LASER.WAV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LASER.WAV" TargetMode="Externa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rvetuloa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1" action="ppaction://hlinksldjump"/>
          </p:cNvPr>
          <p:cNvSpPr/>
          <p:nvPr/>
        </p:nvSpPr>
        <p:spPr>
          <a:xfrm>
            <a:off x="228600" y="5448240"/>
            <a:ext cx="1150920" cy="647640"/>
          </a:xfrm>
          <a:custGeom>
            <a:avLst/>
            <a:gdLst>
              <a:gd name="textAreaLeft" fmla="*/ 41760 w 1150920"/>
              <a:gd name="textAreaRight" fmla="*/ 1109160 w 1150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8376" h="21600">
                <a:moveTo>
                  <a:pt x="0" y="0"/>
                </a:moveTo>
                <a:lnTo>
                  <a:pt x="38376" y="0"/>
                </a:lnTo>
                <a:lnTo>
                  <a:pt x="38376" y="21600"/>
                </a:lnTo>
                <a:lnTo>
                  <a:pt x="0" y="21600"/>
                </a:lnTo>
                <a:close/>
              </a:path>
              <a:path fill="lightenLess" w="38376" h="21600">
                <a:moveTo>
                  <a:pt x="0" y="0"/>
                </a:moveTo>
                <a:lnTo>
                  <a:pt x="38376" y="0"/>
                </a:lnTo>
                <a:lnTo>
                  <a:pt x="36976" y="1400"/>
                </a:lnTo>
                <a:lnTo>
                  <a:pt x="1400" y="1400"/>
                </a:lnTo>
                <a:close/>
              </a:path>
              <a:path fill="darken" w="38376" h="21600">
                <a:moveTo>
                  <a:pt x="38376" y="0"/>
                </a:moveTo>
                <a:lnTo>
                  <a:pt x="38376" y="21600"/>
                </a:lnTo>
                <a:lnTo>
                  <a:pt x="36976" y="20200"/>
                </a:lnTo>
                <a:lnTo>
                  <a:pt x="36976" y="1400"/>
                </a:lnTo>
                <a:close/>
              </a:path>
              <a:path fill="darkenLess" w="38376" h="21600">
                <a:moveTo>
                  <a:pt x="38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76" y="20200"/>
                </a:lnTo>
                <a:close/>
              </a:path>
              <a:path fill="lighten" w="38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376" h="21600">
                <a:moveTo>
                  <a:pt x="12182" y="10800"/>
                </a:moveTo>
                <a:lnTo>
                  <a:pt x="26194" y="3794"/>
                </a:lnTo>
                <a:lnTo>
                  <a:pt x="261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2" action="ppaction://hlinksldjump"/>
          </p:cNvPr>
          <p:cNvSpPr/>
          <p:nvPr/>
        </p:nvSpPr>
        <p:spPr>
          <a:xfrm>
            <a:off x="7840800" y="5448240"/>
            <a:ext cx="1150920" cy="647640"/>
          </a:xfrm>
          <a:custGeom>
            <a:avLst/>
            <a:gdLst>
              <a:gd name="textAreaLeft" fmla="*/ 41760 w 1150920"/>
              <a:gd name="textAreaRight" fmla="*/ 1109160 w 1150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8376" h="21600">
                <a:moveTo>
                  <a:pt x="0" y="0"/>
                </a:moveTo>
                <a:lnTo>
                  <a:pt x="38376" y="0"/>
                </a:lnTo>
                <a:lnTo>
                  <a:pt x="38376" y="21600"/>
                </a:lnTo>
                <a:lnTo>
                  <a:pt x="0" y="21600"/>
                </a:lnTo>
                <a:close/>
              </a:path>
              <a:path fill="lightenLess" w="38376" h="21600">
                <a:moveTo>
                  <a:pt x="0" y="0"/>
                </a:moveTo>
                <a:lnTo>
                  <a:pt x="38376" y="0"/>
                </a:lnTo>
                <a:lnTo>
                  <a:pt x="36976" y="1400"/>
                </a:lnTo>
                <a:lnTo>
                  <a:pt x="1400" y="1400"/>
                </a:lnTo>
                <a:close/>
              </a:path>
              <a:path fill="darken" w="38376" h="21600">
                <a:moveTo>
                  <a:pt x="38376" y="0"/>
                </a:moveTo>
                <a:lnTo>
                  <a:pt x="38376" y="21600"/>
                </a:lnTo>
                <a:lnTo>
                  <a:pt x="36976" y="20200"/>
                </a:lnTo>
                <a:lnTo>
                  <a:pt x="36976" y="1400"/>
                </a:lnTo>
                <a:close/>
              </a:path>
              <a:path fill="darkenLess" w="38376" h="21600">
                <a:moveTo>
                  <a:pt x="38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76" y="20200"/>
                </a:lnTo>
                <a:close/>
              </a:path>
              <a:path fill="lighten" w="38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376" h="21600">
                <a:moveTo>
                  <a:pt x="12182" y="3794"/>
                </a:moveTo>
                <a:lnTo>
                  <a:pt x="26194" y="10800"/>
                </a:lnTo>
                <a:lnTo>
                  <a:pt x="1218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43800" cy="5657760"/>
          </a:xfrm>
          <a:prstGeom prst="rect">
            <a:avLst/>
          </a:prstGeom>
          <a:ln w="0">
            <a:noFill/>
          </a:ln>
        </p:spPr>
      </p:pic>
      <p:sp>
        <p:nvSpPr>
          <p:cNvPr id="46" name="">
            <a:hlinkClick r:id="" action="ppaction://hlinkshowjump?jump=firstslide"/>
            <a:hlinkClick r:id="rId2"/>
          </p:cNvPr>
          <p:cNvSpPr/>
          <p:nvPr/>
        </p:nvSpPr>
        <p:spPr>
          <a:xfrm>
            <a:off x="8381880" y="5943600"/>
            <a:ext cx="609840" cy="76212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762120"/>
              <a:gd name="textAreaBottom" fmla="*/ 722880 h 762120"/>
            </a:gdLst>
            <a:ahLst/>
            <a:rect l="textAreaLeft" t="textAreaTop" r="textAreaRight" b="textAreaBottom"/>
            <a:pathLst>
              <a:path w="21600" h="26990">
                <a:moveTo>
                  <a:pt x="0" y="0"/>
                </a:moveTo>
                <a:lnTo>
                  <a:pt x="21600" y="0"/>
                </a:lnTo>
                <a:lnTo>
                  <a:pt x="21600" y="26990"/>
                </a:lnTo>
                <a:lnTo>
                  <a:pt x="0" y="26990"/>
                </a:lnTo>
                <a:close/>
              </a:path>
              <a:path fill="lightenLess" w="21600" h="269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90">
                <a:moveTo>
                  <a:pt x="21600" y="0"/>
                </a:moveTo>
                <a:lnTo>
                  <a:pt x="21600" y="26990"/>
                </a:lnTo>
                <a:lnTo>
                  <a:pt x="20200" y="25590"/>
                </a:lnTo>
                <a:lnTo>
                  <a:pt x="20200" y="1400"/>
                </a:lnTo>
                <a:close/>
              </a:path>
              <a:path fill="darkenLess" w="21600" h="26990">
                <a:moveTo>
                  <a:pt x="21600" y="26990"/>
                </a:moveTo>
                <a:lnTo>
                  <a:pt x="0" y="26990"/>
                </a:lnTo>
                <a:lnTo>
                  <a:pt x="1400" y="25590"/>
                </a:lnTo>
                <a:lnTo>
                  <a:pt x="20200" y="25590"/>
                </a:lnTo>
                <a:close/>
              </a:path>
              <a:path fill="lighten" w="21600" h="26990">
                <a:moveTo>
                  <a:pt x="0" y="269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90"/>
                </a:lnTo>
                <a:close/>
              </a:path>
              <a:path fill="darken" w="21600" h="26990">
                <a:moveTo>
                  <a:pt x="10800" y="6532"/>
                </a:moveTo>
                <a:lnTo>
                  <a:pt x="13376" y="9143"/>
                </a:lnTo>
                <a:lnTo>
                  <a:pt x="13376" y="7403"/>
                </a:lnTo>
                <a:lnTo>
                  <a:pt x="15152" y="7403"/>
                </a:lnTo>
                <a:lnTo>
                  <a:pt x="15152" y="10919"/>
                </a:lnTo>
                <a:lnTo>
                  <a:pt x="17763" y="13495"/>
                </a:lnTo>
                <a:lnTo>
                  <a:pt x="16109" y="13495"/>
                </a:lnTo>
                <a:lnTo>
                  <a:pt x="16109" y="20684"/>
                </a:lnTo>
                <a:lnTo>
                  <a:pt x="5491" y="20684"/>
                </a:lnTo>
                <a:lnTo>
                  <a:pt x="5491" y="13495"/>
                </a:lnTo>
                <a:lnTo>
                  <a:pt x="3837" y="13495"/>
                </a:lnTo>
                <a:close/>
              </a:path>
              <a:path fill="darkenLess" w="21600" h="26990">
                <a:moveTo>
                  <a:pt x="13376" y="9143"/>
                </a:moveTo>
                <a:lnTo>
                  <a:pt x="13376" y="7403"/>
                </a:lnTo>
                <a:lnTo>
                  <a:pt x="15152" y="7403"/>
                </a:lnTo>
                <a:lnTo>
                  <a:pt x="15152" y="10919"/>
                </a:lnTo>
                <a:close/>
              </a:path>
              <a:path fill="darkenLess" w="21600" h="26990">
                <a:moveTo>
                  <a:pt x="9877" y="16994"/>
                </a:moveTo>
                <a:lnTo>
                  <a:pt x="11723" y="16994"/>
                </a:lnTo>
                <a:lnTo>
                  <a:pt x="11723" y="20684"/>
                </a:lnTo>
                <a:lnTo>
                  <a:pt x="16109" y="20684"/>
                </a:lnTo>
                <a:lnTo>
                  <a:pt x="16109" y="13495"/>
                </a:lnTo>
                <a:lnTo>
                  <a:pt x="5491" y="13495"/>
                </a:lnTo>
                <a:lnTo>
                  <a:pt x="5491" y="20684"/>
                </a:lnTo>
                <a:lnTo>
                  <a:pt x="9877" y="2068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209680"/>
            <a:ext cx="6248520" cy="762120"/>
          </a:xfrm>
          <a:prstGeom prst="leftArrow">
            <a:avLst>
              <a:gd name="adj1" fmla="val 50000"/>
              <a:gd name="adj2" fmla="val 20497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pauta tuosta käynnistääksesi fil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" action="ppaction://hlinkshowjump?jump=previousslide"/>
          </p:cNvPr>
          <p:cNvSpPr/>
          <p:nvPr/>
        </p:nvSpPr>
        <p:spPr>
          <a:xfrm>
            <a:off x="8305920" y="4267080"/>
            <a:ext cx="685800" cy="14479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1447920"/>
              <a:gd name="textAreaBottom" fmla="*/ 1403640 h 1447920"/>
            </a:gdLst>
            <a:ahLst/>
            <a:rect l="textAreaLeft" t="textAreaTop" r="textAreaRight" b="textAreaBottom"/>
            <a:pathLst>
              <a:path w="21600" h="45591">
                <a:moveTo>
                  <a:pt x="0" y="0"/>
                </a:moveTo>
                <a:lnTo>
                  <a:pt x="21600" y="0"/>
                </a:lnTo>
                <a:lnTo>
                  <a:pt x="21600" y="45591"/>
                </a:lnTo>
                <a:lnTo>
                  <a:pt x="0" y="45591"/>
                </a:lnTo>
                <a:close/>
              </a:path>
              <a:path fill="lightenLess" w="21600" h="4559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5591">
                <a:moveTo>
                  <a:pt x="21600" y="0"/>
                </a:moveTo>
                <a:lnTo>
                  <a:pt x="21600" y="45591"/>
                </a:lnTo>
                <a:lnTo>
                  <a:pt x="20200" y="44191"/>
                </a:lnTo>
                <a:lnTo>
                  <a:pt x="20200" y="1400"/>
                </a:lnTo>
                <a:close/>
              </a:path>
              <a:path fill="darkenLess" w="21600" h="45591">
                <a:moveTo>
                  <a:pt x="21600" y="45591"/>
                </a:moveTo>
                <a:lnTo>
                  <a:pt x="0" y="45591"/>
                </a:lnTo>
                <a:lnTo>
                  <a:pt x="1400" y="44191"/>
                </a:lnTo>
                <a:lnTo>
                  <a:pt x="20200" y="44191"/>
                </a:lnTo>
                <a:close/>
              </a:path>
              <a:path fill="lighten" w="21600" h="45591">
                <a:moveTo>
                  <a:pt x="0" y="45591"/>
                </a:moveTo>
                <a:lnTo>
                  <a:pt x="0" y="0"/>
                </a:lnTo>
                <a:lnTo>
                  <a:pt x="1400" y="1400"/>
                </a:lnTo>
                <a:lnTo>
                  <a:pt x="1400" y="44191"/>
                </a:lnTo>
                <a:close/>
              </a:path>
              <a:path fill="darken" w="21600" h="45591">
                <a:moveTo>
                  <a:pt x="3794" y="19488"/>
                </a:moveTo>
                <a:lnTo>
                  <a:pt x="7301" y="19488"/>
                </a:lnTo>
                <a:lnTo>
                  <a:pt x="7301" y="24824"/>
                </a:lnTo>
                <a:cubicBezTo>
                  <a:pt x="7301" y="25746"/>
                  <a:pt x="8102" y="26477"/>
                  <a:pt x="9138" y="26477"/>
                </a:cubicBezTo>
                <a:lnTo>
                  <a:pt x="10800" y="26477"/>
                </a:lnTo>
                <a:cubicBezTo>
                  <a:pt x="11836" y="26477"/>
                  <a:pt x="12636" y="25746"/>
                  <a:pt x="12636" y="24824"/>
                </a:cubicBezTo>
                <a:lnTo>
                  <a:pt x="12636" y="19488"/>
                </a:lnTo>
                <a:lnTo>
                  <a:pt x="10800" y="19488"/>
                </a:lnTo>
                <a:lnTo>
                  <a:pt x="14308" y="15981"/>
                </a:lnTo>
                <a:lnTo>
                  <a:pt x="17981" y="19488"/>
                </a:lnTo>
                <a:lnTo>
                  <a:pt x="16144" y="19488"/>
                </a:lnTo>
                <a:lnTo>
                  <a:pt x="16144" y="24824"/>
                </a:lnTo>
                <a:cubicBezTo>
                  <a:pt x="16144" y="27591"/>
                  <a:pt x="13568" y="30150"/>
                  <a:pt x="10800" y="30150"/>
                </a:cubicBezTo>
                <a:lnTo>
                  <a:pt x="9138" y="30150"/>
                </a:lnTo>
                <a:cubicBezTo>
                  <a:pt x="6370" y="30150"/>
                  <a:pt x="3794" y="27591"/>
                  <a:pt x="3794" y="24824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739800" y="2112840"/>
            <a:ext cx="1165320" cy="935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7A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" name="">
            <a:hlinkClick r:id="rId1"/>
          </p:cNvPr>
          <p:cNvSpPr/>
          <p:nvPr/>
        </p:nvSpPr>
        <p:spPr>
          <a:xfrm>
            <a:off x="6477120" y="91440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3" h="21600">
                <a:moveTo>
                  <a:pt x="5755" y="7301"/>
                </a:moveTo>
                <a:lnTo>
                  <a:pt x="6669" y="7301"/>
                </a:lnTo>
                <a:lnTo>
                  <a:pt x="7052" y="7667"/>
                </a:lnTo>
                <a:lnTo>
                  <a:pt x="16260" y="7667"/>
                </a:lnTo>
                <a:lnTo>
                  <a:pt x="16817" y="8224"/>
                </a:lnTo>
                <a:lnTo>
                  <a:pt x="16817" y="8772"/>
                </a:lnTo>
                <a:lnTo>
                  <a:pt x="18663" y="8772"/>
                </a:lnTo>
                <a:lnTo>
                  <a:pt x="19028" y="8224"/>
                </a:lnTo>
                <a:lnTo>
                  <a:pt x="19768" y="8224"/>
                </a:lnTo>
                <a:lnTo>
                  <a:pt x="19768" y="13376"/>
                </a:lnTo>
                <a:lnTo>
                  <a:pt x="19028" y="13376"/>
                </a:lnTo>
                <a:lnTo>
                  <a:pt x="18663" y="12828"/>
                </a:lnTo>
                <a:lnTo>
                  <a:pt x="16817" y="12828"/>
                </a:lnTo>
                <a:lnTo>
                  <a:pt x="16817" y="14107"/>
                </a:lnTo>
                <a:lnTo>
                  <a:pt x="7235" y="14107"/>
                </a:lnTo>
                <a:lnTo>
                  <a:pt x="7235" y="9877"/>
                </a:lnTo>
                <a:lnTo>
                  <a:pt x="7052" y="9877"/>
                </a:lnTo>
                <a:lnTo>
                  <a:pt x="6669" y="10243"/>
                </a:lnTo>
                <a:lnTo>
                  <a:pt x="5755" y="1024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il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80880" y="0"/>
            <a:ext cx="3886200" cy="1295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Valokuvia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940200" y="2112840"/>
            <a:ext cx="1165320" cy="935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7C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340000" y="2112840"/>
            <a:ext cx="1165320" cy="935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7B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4" name="">
            <a:hlinkClick r:id="rId2"/>
          </p:cNvPr>
          <p:cNvSpPr/>
          <p:nvPr/>
        </p:nvSpPr>
        <p:spPr>
          <a:xfrm>
            <a:off x="228600" y="5448240"/>
            <a:ext cx="1150920" cy="647640"/>
          </a:xfrm>
          <a:custGeom>
            <a:avLst/>
            <a:gdLst>
              <a:gd name="textAreaLeft" fmla="*/ 41760 w 1150920"/>
              <a:gd name="textAreaRight" fmla="*/ 1109160 w 1150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8376" h="21600">
                <a:moveTo>
                  <a:pt x="0" y="0"/>
                </a:moveTo>
                <a:lnTo>
                  <a:pt x="38376" y="0"/>
                </a:lnTo>
                <a:lnTo>
                  <a:pt x="38376" y="21600"/>
                </a:lnTo>
                <a:lnTo>
                  <a:pt x="0" y="21600"/>
                </a:lnTo>
                <a:close/>
              </a:path>
              <a:path fill="lightenLess" w="38376" h="21600">
                <a:moveTo>
                  <a:pt x="0" y="0"/>
                </a:moveTo>
                <a:lnTo>
                  <a:pt x="38376" y="0"/>
                </a:lnTo>
                <a:lnTo>
                  <a:pt x="36976" y="1400"/>
                </a:lnTo>
                <a:lnTo>
                  <a:pt x="1400" y="1400"/>
                </a:lnTo>
                <a:close/>
              </a:path>
              <a:path fill="darken" w="38376" h="21600">
                <a:moveTo>
                  <a:pt x="38376" y="0"/>
                </a:moveTo>
                <a:lnTo>
                  <a:pt x="38376" y="21600"/>
                </a:lnTo>
                <a:lnTo>
                  <a:pt x="36976" y="20200"/>
                </a:lnTo>
                <a:lnTo>
                  <a:pt x="36976" y="1400"/>
                </a:lnTo>
                <a:close/>
              </a:path>
              <a:path fill="darkenLess" w="38376" h="21600">
                <a:moveTo>
                  <a:pt x="38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76" y="20200"/>
                </a:lnTo>
                <a:close/>
              </a:path>
              <a:path fill="lighten" w="38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376" h="21600">
                <a:moveTo>
                  <a:pt x="12182" y="10800"/>
                </a:moveTo>
                <a:lnTo>
                  <a:pt x="26194" y="3794"/>
                </a:lnTo>
                <a:lnTo>
                  <a:pt x="261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" action="ppaction://hlinkshowjump?jump=nextslide"/>
            <a:hlinkClick r:id="rId3"/>
          </p:cNvPr>
          <p:cNvSpPr/>
          <p:nvPr/>
        </p:nvSpPr>
        <p:spPr>
          <a:xfrm>
            <a:off x="7840800" y="5448240"/>
            <a:ext cx="1150920" cy="647640"/>
          </a:xfrm>
          <a:custGeom>
            <a:avLst/>
            <a:gdLst>
              <a:gd name="textAreaLeft" fmla="*/ 41760 w 1150920"/>
              <a:gd name="textAreaRight" fmla="*/ 1109160 w 1150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8376" h="21600">
                <a:moveTo>
                  <a:pt x="0" y="0"/>
                </a:moveTo>
                <a:lnTo>
                  <a:pt x="38376" y="0"/>
                </a:lnTo>
                <a:lnTo>
                  <a:pt x="38376" y="21600"/>
                </a:lnTo>
                <a:lnTo>
                  <a:pt x="0" y="21600"/>
                </a:lnTo>
                <a:close/>
              </a:path>
              <a:path fill="lightenLess" w="38376" h="21600">
                <a:moveTo>
                  <a:pt x="0" y="0"/>
                </a:moveTo>
                <a:lnTo>
                  <a:pt x="38376" y="0"/>
                </a:lnTo>
                <a:lnTo>
                  <a:pt x="36976" y="1400"/>
                </a:lnTo>
                <a:lnTo>
                  <a:pt x="1400" y="1400"/>
                </a:lnTo>
                <a:close/>
              </a:path>
              <a:path fill="darken" w="38376" h="21600">
                <a:moveTo>
                  <a:pt x="38376" y="0"/>
                </a:moveTo>
                <a:lnTo>
                  <a:pt x="38376" y="21600"/>
                </a:lnTo>
                <a:lnTo>
                  <a:pt x="36976" y="20200"/>
                </a:lnTo>
                <a:lnTo>
                  <a:pt x="36976" y="1400"/>
                </a:lnTo>
                <a:close/>
              </a:path>
              <a:path fill="darkenLess" w="38376" h="21600">
                <a:moveTo>
                  <a:pt x="38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76" y="20200"/>
                </a:lnTo>
                <a:close/>
              </a:path>
              <a:path fill="lighten" w="38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376" h="21600">
                <a:moveTo>
                  <a:pt x="12182" y="3794"/>
                </a:moveTo>
                <a:lnTo>
                  <a:pt x="26194" y="10800"/>
                </a:lnTo>
                <a:lnTo>
                  <a:pt x="1218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" action="ppaction://hlinkshowjump?jump=endshow"/>
          </p:cNvPr>
          <p:cNvSpPr/>
          <p:nvPr/>
        </p:nvSpPr>
        <p:spPr>
          <a:xfrm>
            <a:off x="3809880" y="5410080"/>
            <a:ext cx="1524240" cy="1219320"/>
          </a:xfrm>
          <a:custGeom>
            <a:avLst/>
            <a:gdLst>
              <a:gd name="textAreaLeft" fmla="*/ 78840 w 1524240"/>
              <a:gd name="textAreaRight" fmla="*/ 1445400 w 152424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p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4"/>
          </p:cNvPr>
          <p:cNvSpPr/>
          <p:nvPr/>
        </p:nvSpPr>
        <p:spPr>
          <a:xfrm>
            <a:off x="6553080" y="2971800"/>
            <a:ext cx="838440" cy="457200"/>
          </a:xfrm>
          <a:custGeom>
            <a:avLst/>
            <a:gdLst>
              <a:gd name="textAreaLeft" fmla="*/ 68040 w 838440"/>
              <a:gd name="textAreaRight" fmla="*/ 770400 w 838440"/>
              <a:gd name="textAreaTop" fmla="*/ 68040 h 457200"/>
              <a:gd name="textAreaBottom" fmla="*/ 389160 h 457200"/>
            </a:gdLst>
            <a:ahLst/>
            <a:rect l="textAreaLeft" t="textAreaTop" r="textAreaRight" b="textAreaBottom"/>
            <a:pathLst>
              <a:path w="39597" h="21600">
                <a:moveTo>
                  <a:pt x="0" y="0"/>
                </a:moveTo>
                <a:lnTo>
                  <a:pt x="39597" y="0"/>
                </a:lnTo>
                <a:lnTo>
                  <a:pt x="39597" y="21600"/>
                </a:lnTo>
                <a:lnTo>
                  <a:pt x="0" y="21600"/>
                </a:lnTo>
                <a:close/>
              </a:path>
              <a:path fill="lightenLess" w="39597" h="21600">
                <a:moveTo>
                  <a:pt x="0" y="0"/>
                </a:moveTo>
                <a:lnTo>
                  <a:pt x="39597" y="0"/>
                </a:lnTo>
                <a:lnTo>
                  <a:pt x="36372" y="3225"/>
                </a:lnTo>
                <a:lnTo>
                  <a:pt x="3225" y="3225"/>
                </a:lnTo>
                <a:close/>
              </a:path>
              <a:path fill="darken" w="39597" h="21600">
                <a:moveTo>
                  <a:pt x="39597" y="0"/>
                </a:moveTo>
                <a:lnTo>
                  <a:pt x="39597" y="21600"/>
                </a:lnTo>
                <a:lnTo>
                  <a:pt x="36372" y="18375"/>
                </a:lnTo>
                <a:lnTo>
                  <a:pt x="36372" y="3225"/>
                </a:lnTo>
                <a:close/>
              </a:path>
              <a:path fill="darkenLess" w="39597" h="21600">
                <a:moveTo>
                  <a:pt x="39597" y="21600"/>
                </a:moveTo>
                <a:lnTo>
                  <a:pt x="0" y="21600"/>
                </a:lnTo>
                <a:lnTo>
                  <a:pt x="3225" y="18375"/>
                </a:lnTo>
                <a:lnTo>
                  <a:pt x="36372" y="18375"/>
                </a:lnTo>
                <a:close/>
              </a:path>
              <a:path fill="lighten" w="39597" h="21600">
                <a:moveTo>
                  <a:pt x="0" y="21600"/>
                </a:moveTo>
                <a:lnTo>
                  <a:pt x="0" y="0"/>
                </a:lnTo>
                <a:lnTo>
                  <a:pt x="3225" y="3225"/>
                </a:lnTo>
                <a:lnTo>
                  <a:pt x="3225" y="18375"/>
                </a:lnTo>
                <a:close/>
              </a:path>
              <a:path fill="darken" w="39597" h="21600">
                <a:moveTo>
                  <a:pt x="14152" y="8871"/>
                </a:moveTo>
                <a:lnTo>
                  <a:pt x="17722" y="8871"/>
                </a:lnTo>
                <a:lnTo>
                  <a:pt x="21286" y="5154"/>
                </a:lnTo>
                <a:lnTo>
                  <a:pt x="21286" y="16446"/>
                </a:lnTo>
                <a:lnTo>
                  <a:pt x="17722" y="12729"/>
                </a:lnTo>
                <a:lnTo>
                  <a:pt x="14152" y="12729"/>
                </a:lnTo>
                <a:close/>
              </a:path>
              <a:path fill="darken" w="39597" h="21600">
                <a:moveTo>
                  <a:pt x="22618" y="10800"/>
                </a:moveTo>
                <a:lnTo>
                  <a:pt x="25445" y="10800"/>
                </a:lnTo>
              </a:path>
              <a:path fill="darken" w="39597" h="21600">
                <a:moveTo>
                  <a:pt x="22618" y="8871"/>
                </a:moveTo>
                <a:lnTo>
                  <a:pt x="25445" y="6641"/>
                </a:lnTo>
              </a:path>
              <a:path fill="darken" w="39597" h="21600">
                <a:moveTo>
                  <a:pt x="22618" y="12729"/>
                </a:moveTo>
                <a:lnTo>
                  <a:pt x="25445" y="14959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172200" y="2133720"/>
            <a:ext cx="251460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Luokanvalvoja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9" name=""/>
          <p:cNvSpPr/>
          <p:nvPr/>
        </p:nvSpPr>
        <p:spPr>
          <a:xfrm rot="18625800">
            <a:off x="1934640" y="1251000"/>
            <a:ext cx="587520" cy="914400"/>
          </a:xfrm>
          <a:prstGeom prst="downArrow">
            <a:avLst>
              <a:gd name="adj1" fmla="val 47954"/>
              <a:gd name="adj2" fmla="val 6662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5"/>
          </p:cNvPr>
          <p:cNvSpPr/>
          <p:nvPr/>
        </p:nvSpPr>
        <p:spPr>
          <a:xfrm>
            <a:off x="1981080" y="3733920"/>
            <a:ext cx="1219320" cy="1523880"/>
          </a:xfrm>
          <a:custGeom>
            <a:avLst/>
            <a:gdLst>
              <a:gd name="textAreaLeft" fmla="*/ 78840 w 1219320"/>
              <a:gd name="textAreaRight" fmla="*/ 1140480 w 1219320"/>
              <a:gd name="textAreaTop" fmla="*/ 78840 h 1523880"/>
              <a:gd name="textAreaBottom" fmla="*/ 1445040 h 1523880"/>
            </a:gdLst>
            <a:ahLst/>
            <a:rect l="textAreaLeft" t="textAreaTop" r="textAreaRight" b="textAreaBottom"/>
            <a:pathLst>
              <a:path w="21600" h="26994">
                <a:moveTo>
                  <a:pt x="0" y="0"/>
                </a:moveTo>
                <a:lnTo>
                  <a:pt x="21600" y="0"/>
                </a:lnTo>
                <a:lnTo>
                  <a:pt x="21600" y="26994"/>
                </a:lnTo>
                <a:lnTo>
                  <a:pt x="0" y="26994"/>
                </a:lnTo>
                <a:close/>
              </a:path>
              <a:path fill="lightenLess" w="21600" h="269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94">
                <a:moveTo>
                  <a:pt x="21600" y="0"/>
                </a:moveTo>
                <a:lnTo>
                  <a:pt x="21600" y="26994"/>
                </a:lnTo>
                <a:lnTo>
                  <a:pt x="20200" y="25594"/>
                </a:lnTo>
                <a:lnTo>
                  <a:pt x="20200" y="1400"/>
                </a:lnTo>
                <a:close/>
              </a:path>
              <a:path fill="darkenLess" w="21600" h="26994">
                <a:moveTo>
                  <a:pt x="21600" y="26994"/>
                </a:moveTo>
                <a:lnTo>
                  <a:pt x="0" y="26994"/>
                </a:lnTo>
                <a:lnTo>
                  <a:pt x="1400" y="25594"/>
                </a:lnTo>
                <a:lnTo>
                  <a:pt x="20200" y="25594"/>
                </a:lnTo>
                <a:close/>
              </a:path>
              <a:path fill="lighten" w="21600" h="26994">
                <a:moveTo>
                  <a:pt x="0" y="269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94"/>
                </a:lnTo>
                <a:close/>
              </a:path>
              <a:path fill="darkenLess" w="21600" h="26994">
                <a:moveTo>
                  <a:pt x="5273" y="6682"/>
                </a:moveTo>
                <a:lnTo>
                  <a:pt x="12271" y="6682"/>
                </a:lnTo>
                <a:lnTo>
                  <a:pt x="16327" y="10181"/>
                </a:lnTo>
                <a:lnTo>
                  <a:pt x="16327" y="20312"/>
                </a:lnTo>
                <a:lnTo>
                  <a:pt x="5273" y="20312"/>
                </a:lnTo>
                <a:close/>
              </a:path>
              <a:path fill="darken" w="21600" h="26994">
                <a:moveTo>
                  <a:pt x="12271" y="6682"/>
                </a:moveTo>
                <a:lnTo>
                  <a:pt x="16327" y="10181"/>
                </a:lnTo>
                <a:lnTo>
                  <a:pt x="12271" y="10181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543800" y="2971800"/>
            <a:ext cx="838080" cy="457200"/>
          </a:xfrm>
          <a:custGeom>
            <a:avLst/>
            <a:gdLst>
              <a:gd name="textAreaLeft" fmla="*/ 46440 w 838080"/>
              <a:gd name="textAreaRight" fmla="*/ 791640 w 838080"/>
              <a:gd name="textAreaTop" fmla="*/ 46440 h 457200"/>
              <a:gd name="textAreaBottom" fmla="*/ 41076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7386" y="2194"/>
                </a:lnTo>
                <a:lnTo>
                  <a:pt x="2194" y="2194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7386" y="19406"/>
                </a:lnTo>
                <a:lnTo>
                  <a:pt x="37386" y="2194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2194" y="19406"/>
                </a:lnTo>
                <a:lnTo>
                  <a:pt x="37386" y="19406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2194" y="2194"/>
                </a:lnTo>
                <a:lnTo>
                  <a:pt x="2194" y="194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2800" y="3427920"/>
            <a:ext cx="21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ppilasluett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" action="ppaction://hlinkshowjump?jump=firstslide"/>
          </p:cNvPr>
          <p:cNvSpPr/>
          <p:nvPr/>
        </p:nvSpPr>
        <p:spPr>
          <a:xfrm>
            <a:off x="5105520" y="3581280"/>
            <a:ext cx="990360" cy="838440"/>
          </a:xfrm>
          <a:custGeom>
            <a:avLst/>
            <a:gdLst>
              <a:gd name="textAreaLeft" fmla="*/ 54360 w 990360"/>
              <a:gd name="textAreaRight" fmla="*/ 936000 w 99036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5512" h="21600">
                <a:moveTo>
                  <a:pt x="0" y="0"/>
                </a:moveTo>
                <a:lnTo>
                  <a:pt x="25512" y="0"/>
                </a:lnTo>
                <a:lnTo>
                  <a:pt x="25512" y="21600"/>
                </a:lnTo>
                <a:lnTo>
                  <a:pt x="0" y="21600"/>
                </a:lnTo>
                <a:close/>
              </a:path>
              <a:path fill="lightenLess" w="25512" h="21600">
                <a:moveTo>
                  <a:pt x="0" y="0"/>
                </a:moveTo>
                <a:lnTo>
                  <a:pt x="25512" y="0"/>
                </a:lnTo>
                <a:lnTo>
                  <a:pt x="24112" y="1400"/>
                </a:lnTo>
                <a:lnTo>
                  <a:pt x="1400" y="1400"/>
                </a:lnTo>
                <a:close/>
              </a:path>
              <a:path fill="darken" w="25512" h="21600">
                <a:moveTo>
                  <a:pt x="25512" y="0"/>
                </a:moveTo>
                <a:lnTo>
                  <a:pt x="25512" y="21600"/>
                </a:lnTo>
                <a:lnTo>
                  <a:pt x="24112" y="20200"/>
                </a:lnTo>
                <a:lnTo>
                  <a:pt x="24112" y="1400"/>
                </a:lnTo>
                <a:close/>
              </a:path>
              <a:path fill="darkenLess" w="25512" h="21600">
                <a:moveTo>
                  <a:pt x="255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12" y="20200"/>
                </a:lnTo>
                <a:close/>
              </a:path>
              <a:path fill="lighten" w="255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12" h="21600">
                <a:moveTo>
                  <a:pt x="12756" y="3837"/>
                </a:moveTo>
                <a:lnTo>
                  <a:pt x="15332" y="6448"/>
                </a:lnTo>
                <a:lnTo>
                  <a:pt x="15332" y="4707"/>
                </a:lnTo>
                <a:lnTo>
                  <a:pt x="17108" y="4707"/>
                </a:lnTo>
                <a:lnTo>
                  <a:pt x="17108" y="8224"/>
                </a:lnTo>
                <a:lnTo>
                  <a:pt x="19719" y="10800"/>
                </a:lnTo>
                <a:lnTo>
                  <a:pt x="18065" y="10800"/>
                </a:lnTo>
                <a:lnTo>
                  <a:pt x="18065" y="17989"/>
                </a:lnTo>
                <a:lnTo>
                  <a:pt x="7447" y="17989"/>
                </a:lnTo>
                <a:lnTo>
                  <a:pt x="7447" y="10800"/>
                </a:lnTo>
                <a:lnTo>
                  <a:pt x="5793" y="10800"/>
                </a:lnTo>
                <a:close/>
              </a:path>
              <a:path fill="darkenLess" w="25512" h="21600">
                <a:moveTo>
                  <a:pt x="15332" y="6448"/>
                </a:moveTo>
                <a:lnTo>
                  <a:pt x="15332" y="4707"/>
                </a:lnTo>
                <a:lnTo>
                  <a:pt x="17108" y="4707"/>
                </a:lnTo>
                <a:lnTo>
                  <a:pt x="17108" y="8224"/>
                </a:lnTo>
                <a:close/>
              </a:path>
              <a:path fill="darkenLess" w="25512" h="21600">
                <a:moveTo>
                  <a:pt x="11833" y="14299"/>
                </a:moveTo>
                <a:lnTo>
                  <a:pt x="13679" y="14299"/>
                </a:lnTo>
                <a:lnTo>
                  <a:pt x="13679" y="17989"/>
                </a:lnTo>
                <a:lnTo>
                  <a:pt x="18065" y="17989"/>
                </a:lnTo>
                <a:lnTo>
                  <a:pt x="18065" y="10800"/>
                </a:lnTo>
                <a:lnTo>
                  <a:pt x="7447" y="10800"/>
                </a:lnTo>
                <a:lnTo>
                  <a:pt x="7447" y="17989"/>
                </a:lnTo>
                <a:lnTo>
                  <a:pt x="11833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848720" y="685800"/>
            <a:ext cx="914400" cy="11430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1143000"/>
              <a:gd name="textAreaBottom" fmla="*/ 1083960 h 1143000"/>
            </a:gdLst>
            <a:ahLst/>
            <a:rect l="textAreaLeft" t="textAreaTop" r="textAreaRight" b="textAreaBottom"/>
            <a:pathLst>
              <a:path w="21600" h="26998">
                <a:moveTo>
                  <a:pt x="0" y="0"/>
                </a:moveTo>
                <a:lnTo>
                  <a:pt x="21600" y="0"/>
                </a:lnTo>
                <a:lnTo>
                  <a:pt x="21600" y="26998"/>
                </a:lnTo>
                <a:lnTo>
                  <a:pt x="0" y="26998"/>
                </a:lnTo>
                <a:close/>
              </a:path>
              <a:path fill="lightenLess" w="21600" h="269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98">
                <a:moveTo>
                  <a:pt x="21600" y="0"/>
                </a:moveTo>
                <a:lnTo>
                  <a:pt x="21600" y="26998"/>
                </a:lnTo>
                <a:lnTo>
                  <a:pt x="20200" y="25598"/>
                </a:lnTo>
                <a:lnTo>
                  <a:pt x="20200" y="1400"/>
                </a:lnTo>
                <a:close/>
              </a:path>
              <a:path fill="darkenLess" w="21600" h="26998">
                <a:moveTo>
                  <a:pt x="21600" y="26998"/>
                </a:moveTo>
                <a:lnTo>
                  <a:pt x="0" y="26998"/>
                </a:lnTo>
                <a:lnTo>
                  <a:pt x="1400" y="25598"/>
                </a:lnTo>
                <a:lnTo>
                  <a:pt x="20200" y="25598"/>
                </a:lnTo>
                <a:close/>
              </a:path>
              <a:path fill="lighten" w="21600" h="26998">
                <a:moveTo>
                  <a:pt x="0" y="26998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98"/>
                </a:lnTo>
                <a:close/>
              </a:path>
              <a:path fill="darken" w="21600" h="26998">
                <a:moveTo>
                  <a:pt x="10800" y="6536"/>
                </a:moveTo>
                <a:lnTo>
                  <a:pt x="13376" y="9147"/>
                </a:lnTo>
                <a:lnTo>
                  <a:pt x="13376" y="7406"/>
                </a:lnTo>
                <a:lnTo>
                  <a:pt x="15152" y="7406"/>
                </a:lnTo>
                <a:lnTo>
                  <a:pt x="15152" y="10923"/>
                </a:lnTo>
                <a:lnTo>
                  <a:pt x="17763" y="13499"/>
                </a:lnTo>
                <a:lnTo>
                  <a:pt x="16109" y="13499"/>
                </a:lnTo>
                <a:lnTo>
                  <a:pt x="16109" y="20688"/>
                </a:lnTo>
                <a:lnTo>
                  <a:pt x="5491" y="20688"/>
                </a:lnTo>
                <a:lnTo>
                  <a:pt x="5491" y="13499"/>
                </a:lnTo>
                <a:lnTo>
                  <a:pt x="3837" y="13499"/>
                </a:lnTo>
                <a:close/>
              </a:path>
              <a:path fill="darkenLess" w="21600" h="26998">
                <a:moveTo>
                  <a:pt x="13376" y="9147"/>
                </a:moveTo>
                <a:lnTo>
                  <a:pt x="13376" y="7406"/>
                </a:lnTo>
                <a:lnTo>
                  <a:pt x="15152" y="7406"/>
                </a:lnTo>
                <a:lnTo>
                  <a:pt x="15152" y="10923"/>
                </a:lnTo>
                <a:close/>
              </a:path>
              <a:path fill="darkenLess" w="21600" h="26998">
                <a:moveTo>
                  <a:pt x="9877" y="16998"/>
                </a:moveTo>
                <a:lnTo>
                  <a:pt x="11723" y="16998"/>
                </a:lnTo>
                <a:lnTo>
                  <a:pt x="11723" y="20688"/>
                </a:lnTo>
                <a:lnTo>
                  <a:pt x="16109" y="20688"/>
                </a:lnTo>
                <a:lnTo>
                  <a:pt x="16109" y="13499"/>
                </a:lnTo>
                <a:lnTo>
                  <a:pt x="5491" y="13499"/>
                </a:lnTo>
                <a:lnTo>
                  <a:pt x="5491" y="20688"/>
                </a:lnTo>
                <a:lnTo>
                  <a:pt x="9877" y="2068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80880" y="0"/>
            <a:ext cx="3886200" cy="1295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Valokuvia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057400" y="1600200"/>
            <a:ext cx="1165320" cy="934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8B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7" name="">
            <a:hlinkClick r:id="" action="ppaction://hlinkshowjump?jump=previousslide"/>
            <a:hlinkClick r:id="rId1"/>
          </p:cNvPr>
          <p:cNvSpPr/>
          <p:nvPr/>
        </p:nvSpPr>
        <p:spPr>
          <a:xfrm>
            <a:off x="228600" y="5448240"/>
            <a:ext cx="1150920" cy="647640"/>
          </a:xfrm>
          <a:custGeom>
            <a:avLst/>
            <a:gdLst>
              <a:gd name="textAreaLeft" fmla="*/ 41760 w 1150920"/>
              <a:gd name="textAreaRight" fmla="*/ 1109160 w 1150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8376" h="21600">
                <a:moveTo>
                  <a:pt x="0" y="0"/>
                </a:moveTo>
                <a:lnTo>
                  <a:pt x="38376" y="0"/>
                </a:lnTo>
                <a:lnTo>
                  <a:pt x="38376" y="21600"/>
                </a:lnTo>
                <a:lnTo>
                  <a:pt x="0" y="21600"/>
                </a:lnTo>
                <a:close/>
              </a:path>
              <a:path fill="lightenLess" w="38376" h="21600">
                <a:moveTo>
                  <a:pt x="0" y="0"/>
                </a:moveTo>
                <a:lnTo>
                  <a:pt x="38376" y="0"/>
                </a:lnTo>
                <a:lnTo>
                  <a:pt x="36976" y="1400"/>
                </a:lnTo>
                <a:lnTo>
                  <a:pt x="1400" y="1400"/>
                </a:lnTo>
                <a:close/>
              </a:path>
              <a:path fill="darken" w="38376" h="21600">
                <a:moveTo>
                  <a:pt x="38376" y="0"/>
                </a:moveTo>
                <a:lnTo>
                  <a:pt x="38376" y="21600"/>
                </a:lnTo>
                <a:lnTo>
                  <a:pt x="36976" y="20200"/>
                </a:lnTo>
                <a:lnTo>
                  <a:pt x="36976" y="1400"/>
                </a:lnTo>
                <a:close/>
              </a:path>
              <a:path fill="darkenLess" w="38376" h="21600">
                <a:moveTo>
                  <a:pt x="38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76" y="20200"/>
                </a:lnTo>
                <a:close/>
              </a:path>
              <a:path fill="lighten" w="38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376" h="21600">
                <a:moveTo>
                  <a:pt x="12182" y="10800"/>
                </a:moveTo>
                <a:lnTo>
                  <a:pt x="26194" y="3794"/>
                </a:lnTo>
                <a:lnTo>
                  <a:pt x="261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" action="ppaction://hlinkshowjump?jump=nextslide"/>
            <a:hlinkClick r:id="rId2"/>
          </p:cNvPr>
          <p:cNvSpPr/>
          <p:nvPr/>
        </p:nvSpPr>
        <p:spPr>
          <a:xfrm>
            <a:off x="7840800" y="5448240"/>
            <a:ext cx="1150920" cy="647640"/>
          </a:xfrm>
          <a:custGeom>
            <a:avLst/>
            <a:gdLst>
              <a:gd name="textAreaLeft" fmla="*/ 41760 w 1150920"/>
              <a:gd name="textAreaRight" fmla="*/ 1109160 w 1150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8376" h="21600">
                <a:moveTo>
                  <a:pt x="0" y="0"/>
                </a:moveTo>
                <a:lnTo>
                  <a:pt x="38376" y="0"/>
                </a:lnTo>
                <a:lnTo>
                  <a:pt x="38376" y="21600"/>
                </a:lnTo>
                <a:lnTo>
                  <a:pt x="0" y="21600"/>
                </a:lnTo>
                <a:close/>
              </a:path>
              <a:path fill="lightenLess" w="38376" h="21600">
                <a:moveTo>
                  <a:pt x="0" y="0"/>
                </a:moveTo>
                <a:lnTo>
                  <a:pt x="38376" y="0"/>
                </a:lnTo>
                <a:lnTo>
                  <a:pt x="36976" y="1400"/>
                </a:lnTo>
                <a:lnTo>
                  <a:pt x="1400" y="1400"/>
                </a:lnTo>
                <a:close/>
              </a:path>
              <a:path fill="darken" w="38376" h="21600">
                <a:moveTo>
                  <a:pt x="38376" y="0"/>
                </a:moveTo>
                <a:lnTo>
                  <a:pt x="38376" y="21600"/>
                </a:lnTo>
                <a:lnTo>
                  <a:pt x="36976" y="20200"/>
                </a:lnTo>
                <a:lnTo>
                  <a:pt x="36976" y="1400"/>
                </a:lnTo>
                <a:close/>
              </a:path>
              <a:path fill="darkenLess" w="38376" h="21600">
                <a:moveTo>
                  <a:pt x="38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76" y="20200"/>
                </a:lnTo>
                <a:close/>
              </a:path>
              <a:path fill="lighten" w="38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376" h="21600">
                <a:moveTo>
                  <a:pt x="12182" y="3794"/>
                </a:moveTo>
                <a:lnTo>
                  <a:pt x="26194" y="10800"/>
                </a:lnTo>
                <a:lnTo>
                  <a:pt x="1218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80880" y="0"/>
            <a:ext cx="3886200" cy="1295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Valokuvia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133720" y="1600200"/>
            <a:ext cx="1164960" cy="934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9B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1" name="">
            <a:hlinkClick r:id="" action="ppaction://hlinkshowjump?jump=previousslide"/>
            <a:hlinkClick r:id="rId1"/>
          </p:cNvPr>
          <p:cNvSpPr/>
          <p:nvPr/>
        </p:nvSpPr>
        <p:spPr>
          <a:xfrm>
            <a:off x="228600" y="5448240"/>
            <a:ext cx="1150920" cy="647640"/>
          </a:xfrm>
          <a:custGeom>
            <a:avLst/>
            <a:gdLst>
              <a:gd name="textAreaLeft" fmla="*/ 41760 w 1150920"/>
              <a:gd name="textAreaRight" fmla="*/ 1109160 w 1150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8376" h="21600">
                <a:moveTo>
                  <a:pt x="0" y="0"/>
                </a:moveTo>
                <a:lnTo>
                  <a:pt x="38376" y="0"/>
                </a:lnTo>
                <a:lnTo>
                  <a:pt x="38376" y="21600"/>
                </a:lnTo>
                <a:lnTo>
                  <a:pt x="0" y="21600"/>
                </a:lnTo>
                <a:close/>
              </a:path>
              <a:path fill="lightenLess" w="38376" h="21600">
                <a:moveTo>
                  <a:pt x="0" y="0"/>
                </a:moveTo>
                <a:lnTo>
                  <a:pt x="38376" y="0"/>
                </a:lnTo>
                <a:lnTo>
                  <a:pt x="36976" y="1400"/>
                </a:lnTo>
                <a:lnTo>
                  <a:pt x="1400" y="1400"/>
                </a:lnTo>
                <a:close/>
              </a:path>
              <a:path fill="darken" w="38376" h="21600">
                <a:moveTo>
                  <a:pt x="38376" y="0"/>
                </a:moveTo>
                <a:lnTo>
                  <a:pt x="38376" y="21600"/>
                </a:lnTo>
                <a:lnTo>
                  <a:pt x="36976" y="20200"/>
                </a:lnTo>
                <a:lnTo>
                  <a:pt x="36976" y="1400"/>
                </a:lnTo>
                <a:close/>
              </a:path>
              <a:path fill="darkenLess" w="38376" h="21600">
                <a:moveTo>
                  <a:pt x="38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76" y="20200"/>
                </a:lnTo>
                <a:close/>
              </a:path>
              <a:path fill="lighten" w="38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376" h="21600">
                <a:moveTo>
                  <a:pt x="12182" y="10800"/>
                </a:moveTo>
                <a:lnTo>
                  <a:pt x="26194" y="3794"/>
                </a:lnTo>
                <a:lnTo>
                  <a:pt x="261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2" action="ppaction://hlinksldjump"/>
          </p:cNvPr>
          <p:cNvSpPr/>
          <p:nvPr/>
        </p:nvSpPr>
        <p:spPr>
          <a:xfrm>
            <a:off x="7840800" y="5448240"/>
            <a:ext cx="1150920" cy="647640"/>
          </a:xfrm>
          <a:custGeom>
            <a:avLst/>
            <a:gdLst>
              <a:gd name="textAreaLeft" fmla="*/ 41760 w 1150920"/>
              <a:gd name="textAreaRight" fmla="*/ 1109160 w 1150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8376" h="21600">
                <a:moveTo>
                  <a:pt x="0" y="0"/>
                </a:moveTo>
                <a:lnTo>
                  <a:pt x="38376" y="0"/>
                </a:lnTo>
                <a:lnTo>
                  <a:pt x="38376" y="21600"/>
                </a:lnTo>
                <a:lnTo>
                  <a:pt x="0" y="21600"/>
                </a:lnTo>
                <a:close/>
              </a:path>
              <a:path fill="lightenLess" w="38376" h="21600">
                <a:moveTo>
                  <a:pt x="0" y="0"/>
                </a:moveTo>
                <a:lnTo>
                  <a:pt x="38376" y="0"/>
                </a:lnTo>
                <a:lnTo>
                  <a:pt x="36976" y="1400"/>
                </a:lnTo>
                <a:lnTo>
                  <a:pt x="1400" y="1400"/>
                </a:lnTo>
                <a:close/>
              </a:path>
              <a:path fill="darken" w="38376" h="21600">
                <a:moveTo>
                  <a:pt x="38376" y="0"/>
                </a:moveTo>
                <a:lnTo>
                  <a:pt x="38376" y="21600"/>
                </a:lnTo>
                <a:lnTo>
                  <a:pt x="36976" y="20200"/>
                </a:lnTo>
                <a:lnTo>
                  <a:pt x="36976" y="1400"/>
                </a:lnTo>
                <a:close/>
              </a:path>
              <a:path fill="darkenLess" w="38376" h="21600">
                <a:moveTo>
                  <a:pt x="38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76" y="20200"/>
                </a:lnTo>
                <a:close/>
              </a:path>
              <a:path fill="lighten" w="38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376" h="21600">
                <a:moveTo>
                  <a:pt x="12182" y="3794"/>
                </a:moveTo>
                <a:lnTo>
                  <a:pt x="26194" y="10800"/>
                </a:lnTo>
                <a:lnTo>
                  <a:pt x="1218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kummitus%202" descr=""/>
          <p:cNvPicPr/>
          <p:nvPr/>
        </p:nvPicPr>
        <p:blipFill>
          <a:blip r:embed="rId1"/>
          <a:stretch/>
        </p:blipFill>
        <p:spPr>
          <a:xfrm>
            <a:off x="4064040" y="0"/>
            <a:ext cx="507996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>
            <a:hlinkClick r:id="" action="ppaction://hlinkshowjump?jump=previousslide"/>
          </p:cNvPr>
          <p:cNvSpPr/>
          <p:nvPr/>
        </p:nvSpPr>
        <p:spPr>
          <a:xfrm>
            <a:off x="8381880" y="5943600"/>
            <a:ext cx="609840" cy="76212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762120"/>
              <a:gd name="textAreaBottom" fmla="*/ 722880 h 762120"/>
            </a:gdLst>
            <a:ahLst/>
            <a:rect l="textAreaLeft" t="textAreaTop" r="textAreaRight" b="textAreaBottom"/>
            <a:pathLst>
              <a:path w="21600" h="26990">
                <a:moveTo>
                  <a:pt x="0" y="0"/>
                </a:moveTo>
                <a:lnTo>
                  <a:pt x="21600" y="0"/>
                </a:lnTo>
                <a:lnTo>
                  <a:pt x="21600" y="26990"/>
                </a:lnTo>
                <a:lnTo>
                  <a:pt x="0" y="26990"/>
                </a:lnTo>
                <a:close/>
              </a:path>
              <a:path fill="lightenLess" w="21600" h="269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90">
                <a:moveTo>
                  <a:pt x="21600" y="0"/>
                </a:moveTo>
                <a:lnTo>
                  <a:pt x="21600" y="26990"/>
                </a:lnTo>
                <a:lnTo>
                  <a:pt x="20200" y="25590"/>
                </a:lnTo>
                <a:lnTo>
                  <a:pt x="20200" y="1400"/>
                </a:lnTo>
                <a:close/>
              </a:path>
              <a:path fill="darkenLess" w="21600" h="26990">
                <a:moveTo>
                  <a:pt x="21600" y="26990"/>
                </a:moveTo>
                <a:lnTo>
                  <a:pt x="0" y="26990"/>
                </a:lnTo>
                <a:lnTo>
                  <a:pt x="1400" y="25590"/>
                </a:lnTo>
                <a:lnTo>
                  <a:pt x="20200" y="25590"/>
                </a:lnTo>
                <a:close/>
              </a:path>
              <a:path fill="lighten" w="21600" h="26990">
                <a:moveTo>
                  <a:pt x="0" y="269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90"/>
                </a:lnTo>
                <a:close/>
              </a:path>
              <a:path fill="darken" w="21600" h="26990">
                <a:moveTo>
                  <a:pt x="10800" y="6532"/>
                </a:moveTo>
                <a:lnTo>
                  <a:pt x="13376" y="9143"/>
                </a:lnTo>
                <a:lnTo>
                  <a:pt x="13376" y="7403"/>
                </a:lnTo>
                <a:lnTo>
                  <a:pt x="15152" y="7403"/>
                </a:lnTo>
                <a:lnTo>
                  <a:pt x="15152" y="10919"/>
                </a:lnTo>
                <a:lnTo>
                  <a:pt x="17763" y="13495"/>
                </a:lnTo>
                <a:lnTo>
                  <a:pt x="16109" y="13495"/>
                </a:lnTo>
                <a:lnTo>
                  <a:pt x="16109" y="20684"/>
                </a:lnTo>
                <a:lnTo>
                  <a:pt x="5491" y="20684"/>
                </a:lnTo>
                <a:lnTo>
                  <a:pt x="5491" y="13495"/>
                </a:lnTo>
                <a:lnTo>
                  <a:pt x="3837" y="13495"/>
                </a:lnTo>
                <a:close/>
              </a:path>
              <a:path fill="darkenLess" w="21600" h="26990">
                <a:moveTo>
                  <a:pt x="13376" y="9143"/>
                </a:moveTo>
                <a:lnTo>
                  <a:pt x="13376" y="7403"/>
                </a:lnTo>
                <a:lnTo>
                  <a:pt x="15152" y="7403"/>
                </a:lnTo>
                <a:lnTo>
                  <a:pt x="15152" y="10919"/>
                </a:lnTo>
                <a:close/>
              </a:path>
              <a:path fill="darkenLess" w="21600" h="26990">
                <a:moveTo>
                  <a:pt x="9877" y="16994"/>
                </a:moveTo>
                <a:lnTo>
                  <a:pt x="11723" y="16994"/>
                </a:lnTo>
                <a:lnTo>
                  <a:pt x="11723" y="20684"/>
                </a:lnTo>
                <a:lnTo>
                  <a:pt x="16109" y="20684"/>
                </a:lnTo>
                <a:lnTo>
                  <a:pt x="16109" y="13495"/>
                </a:lnTo>
                <a:lnTo>
                  <a:pt x="5491" y="13495"/>
                </a:lnTo>
                <a:lnTo>
                  <a:pt x="5491" y="20684"/>
                </a:lnTo>
                <a:lnTo>
                  <a:pt x="9877" y="2068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11200" y="152280"/>
            <a:ext cx="1165320" cy="935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7A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kummitus" descr=""/>
          <p:cNvPicPr/>
          <p:nvPr/>
        </p:nvPicPr>
        <p:blipFill>
          <a:blip r:embed="rId1"/>
          <a:stretch/>
        </p:blipFill>
        <p:spPr>
          <a:xfrm>
            <a:off x="400068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>
            <a:hlinkClick r:id="" action="ppaction://hlinkshowjump?jump=previousslide"/>
          </p:cNvPr>
          <p:cNvSpPr/>
          <p:nvPr/>
        </p:nvSpPr>
        <p:spPr>
          <a:xfrm>
            <a:off x="8381880" y="5943600"/>
            <a:ext cx="609840" cy="76212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762120"/>
              <a:gd name="textAreaBottom" fmla="*/ 722880 h 762120"/>
            </a:gdLst>
            <a:ahLst/>
            <a:rect l="textAreaLeft" t="textAreaTop" r="textAreaRight" b="textAreaBottom"/>
            <a:pathLst>
              <a:path w="21600" h="26990">
                <a:moveTo>
                  <a:pt x="0" y="0"/>
                </a:moveTo>
                <a:lnTo>
                  <a:pt x="21600" y="0"/>
                </a:lnTo>
                <a:lnTo>
                  <a:pt x="21600" y="26990"/>
                </a:lnTo>
                <a:lnTo>
                  <a:pt x="0" y="26990"/>
                </a:lnTo>
                <a:close/>
              </a:path>
              <a:path fill="lightenLess" w="21600" h="269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90">
                <a:moveTo>
                  <a:pt x="21600" y="0"/>
                </a:moveTo>
                <a:lnTo>
                  <a:pt x="21600" y="26990"/>
                </a:lnTo>
                <a:lnTo>
                  <a:pt x="20200" y="25590"/>
                </a:lnTo>
                <a:lnTo>
                  <a:pt x="20200" y="1400"/>
                </a:lnTo>
                <a:close/>
              </a:path>
              <a:path fill="darkenLess" w="21600" h="26990">
                <a:moveTo>
                  <a:pt x="21600" y="26990"/>
                </a:moveTo>
                <a:lnTo>
                  <a:pt x="0" y="26990"/>
                </a:lnTo>
                <a:lnTo>
                  <a:pt x="1400" y="25590"/>
                </a:lnTo>
                <a:lnTo>
                  <a:pt x="20200" y="25590"/>
                </a:lnTo>
                <a:close/>
              </a:path>
              <a:path fill="lighten" w="21600" h="26990">
                <a:moveTo>
                  <a:pt x="0" y="269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90"/>
                </a:lnTo>
                <a:close/>
              </a:path>
              <a:path fill="darken" w="21600" h="26990">
                <a:moveTo>
                  <a:pt x="10800" y="6532"/>
                </a:moveTo>
                <a:lnTo>
                  <a:pt x="13376" y="9143"/>
                </a:lnTo>
                <a:lnTo>
                  <a:pt x="13376" y="7403"/>
                </a:lnTo>
                <a:lnTo>
                  <a:pt x="15152" y="7403"/>
                </a:lnTo>
                <a:lnTo>
                  <a:pt x="15152" y="10919"/>
                </a:lnTo>
                <a:lnTo>
                  <a:pt x="17763" y="13495"/>
                </a:lnTo>
                <a:lnTo>
                  <a:pt x="16109" y="13495"/>
                </a:lnTo>
                <a:lnTo>
                  <a:pt x="16109" y="20684"/>
                </a:lnTo>
                <a:lnTo>
                  <a:pt x="5491" y="20684"/>
                </a:lnTo>
                <a:lnTo>
                  <a:pt x="5491" y="13495"/>
                </a:lnTo>
                <a:lnTo>
                  <a:pt x="3837" y="13495"/>
                </a:lnTo>
                <a:close/>
              </a:path>
              <a:path fill="darkenLess" w="21600" h="26990">
                <a:moveTo>
                  <a:pt x="13376" y="9143"/>
                </a:moveTo>
                <a:lnTo>
                  <a:pt x="13376" y="7403"/>
                </a:lnTo>
                <a:lnTo>
                  <a:pt x="15152" y="7403"/>
                </a:lnTo>
                <a:lnTo>
                  <a:pt x="15152" y="10919"/>
                </a:lnTo>
                <a:close/>
              </a:path>
              <a:path fill="darkenLess" w="21600" h="26990">
                <a:moveTo>
                  <a:pt x="9877" y="16994"/>
                </a:moveTo>
                <a:lnTo>
                  <a:pt x="11723" y="16994"/>
                </a:lnTo>
                <a:lnTo>
                  <a:pt x="11723" y="20684"/>
                </a:lnTo>
                <a:lnTo>
                  <a:pt x="16109" y="20684"/>
                </a:lnTo>
                <a:lnTo>
                  <a:pt x="16109" y="13495"/>
                </a:lnTo>
                <a:lnTo>
                  <a:pt x="5491" y="13495"/>
                </a:lnTo>
                <a:lnTo>
                  <a:pt x="5491" y="20684"/>
                </a:lnTo>
                <a:lnTo>
                  <a:pt x="9877" y="2068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587520" y="152280"/>
            <a:ext cx="1164960" cy="935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7B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-455760"/>
            <a:ext cx="9144000" cy="7313760"/>
          </a:xfrm>
          <a:prstGeom prst="rect">
            <a:avLst/>
          </a:prstGeom>
          <a:ln w="0">
            <a:noFill/>
          </a:ln>
        </p:spPr>
      </p:pic>
      <p:sp>
        <p:nvSpPr>
          <p:cNvPr id="80" name="">
            <a:hlinkClick r:id="" action="ppaction://hlinkshowjump?jump=previousslide"/>
          </p:cNvPr>
          <p:cNvSpPr/>
          <p:nvPr/>
        </p:nvSpPr>
        <p:spPr>
          <a:xfrm>
            <a:off x="8381880" y="5943600"/>
            <a:ext cx="609840" cy="76212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762120"/>
              <a:gd name="textAreaBottom" fmla="*/ 722880 h 762120"/>
            </a:gdLst>
            <a:ahLst/>
            <a:rect l="textAreaLeft" t="textAreaTop" r="textAreaRight" b="textAreaBottom"/>
            <a:pathLst>
              <a:path w="21600" h="26990">
                <a:moveTo>
                  <a:pt x="0" y="0"/>
                </a:moveTo>
                <a:lnTo>
                  <a:pt x="21600" y="0"/>
                </a:lnTo>
                <a:lnTo>
                  <a:pt x="21600" y="26990"/>
                </a:lnTo>
                <a:lnTo>
                  <a:pt x="0" y="26990"/>
                </a:lnTo>
                <a:close/>
              </a:path>
              <a:path fill="lightenLess" w="21600" h="269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90">
                <a:moveTo>
                  <a:pt x="21600" y="0"/>
                </a:moveTo>
                <a:lnTo>
                  <a:pt x="21600" y="26990"/>
                </a:lnTo>
                <a:lnTo>
                  <a:pt x="20200" y="25590"/>
                </a:lnTo>
                <a:lnTo>
                  <a:pt x="20200" y="1400"/>
                </a:lnTo>
                <a:close/>
              </a:path>
              <a:path fill="darkenLess" w="21600" h="26990">
                <a:moveTo>
                  <a:pt x="21600" y="26990"/>
                </a:moveTo>
                <a:lnTo>
                  <a:pt x="0" y="26990"/>
                </a:lnTo>
                <a:lnTo>
                  <a:pt x="1400" y="25590"/>
                </a:lnTo>
                <a:lnTo>
                  <a:pt x="20200" y="25590"/>
                </a:lnTo>
                <a:close/>
              </a:path>
              <a:path fill="lighten" w="21600" h="26990">
                <a:moveTo>
                  <a:pt x="0" y="269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90"/>
                </a:lnTo>
                <a:close/>
              </a:path>
              <a:path fill="darken" w="21600" h="26990">
                <a:moveTo>
                  <a:pt x="10800" y="6532"/>
                </a:moveTo>
                <a:lnTo>
                  <a:pt x="13376" y="9143"/>
                </a:lnTo>
                <a:lnTo>
                  <a:pt x="13376" y="7403"/>
                </a:lnTo>
                <a:lnTo>
                  <a:pt x="15152" y="7403"/>
                </a:lnTo>
                <a:lnTo>
                  <a:pt x="15152" y="10919"/>
                </a:lnTo>
                <a:lnTo>
                  <a:pt x="17763" y="13495"/>
                </a:lnTo>
                <a:lnTo>
                  <a:pt x="16109" y="13495"/>
                </a:lnTo>
                <a:lnTo>
                  <a:pt x="16109" y="20684"/>
                </a:lnTo>
                <a:lnTo>
                  <a:pt x="5491" y="20684"/>
                </a:lnTo>
                <a:lnTo>
                  <a:pt x="5491" y="13495"/>
                </a:lnTo>
                <a:lnTo>
                  <a:pt x="3837" y="13495"/>
                </a:lnTo>
                <a:close/>
              </a:path>
              <a:path fill="darkenLess" w="21600" h="26990">
                <a:moveTo>
                  <a:pt x="13376" y="9143"/>
                </a:moveTo>
                <a:lnTo>
                  <a:pt x="13376" y="7403"/>
                </a:lnTo>
                <a:lnTo>
                  <a:pt x="15152" y="7403"/>
                </a:lnTo>
                <a:lnTo>
                  <a:pt x="15152" y="10919"/>
                </a:lnTo>
                <a:close/>
              </a:path>
              <a:path fill="darkenLess" w="21600" h="26990">
                <a:moveTo>
                  <a:pt x="9877" y="16994"/>
                </a:moveTo>
                <a:lnTo>
                  <a:pt x="11723" y="16994"/>
                </a:lnTo>
                <a:lnTo>
                  <a:pt x="11723" y="20684"/>
                </a:lnTo>
                <a:lnTo>
                  <a:pt x="16109" y="20684"/>
                </a:lnTo>
                <a:lnTo>
                  <a:pt x="16109" y="13495"/>
                </a:lnTo>
                <a:lnTo>
                  <a:pt x="5491" y="13495"/>
                </a:lnTo>
                <a:lnTo>
                  <a:pt x="5491" y="20684"/>
                </a:lnTo>
                <a:lnTo>
                  <a:pt x="9877" y="2068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52280"/>
            <a:ext cx="1165320" cy="935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7C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ff0000"/>
                </a:solidFill>
                <a:latin typeface="Times New Roman"/>
              </a:rPr>
              <a:t>7. lk:n oppilasluette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682560" y="2022480"/>
          <a:ext cx="7724880" cy="4221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2022480"/>
                    <a:ext cx="7724880" cy="42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>
            <a:hlinkClick r:id="" action="ppaction://hlinkshowjump?jump=previousslide"/>
          </p:cNvPr>
          <p:cNvSpPr/>
          <p:nvPr/>
        </p:nvSpPr>
        <p:spPr>
          <a:xfrm>
            <a:off x="8305920" y="4267080"/>
            <a:ext cx="685800" cy="14479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1447920"/>
              <a:gd name="textAreaBottom" fmla="*/ 1403640 h 1447920"/>
            </a:gdLst>
            <a:ahLst/>
            <a:rect l="textAreaLeft" t="textAreaTop" r="textAreaRight" b="textAreaBottom"/>
            <a:pathLst>
              <a:path w="21600" h="45591">
                <a:moveTo>
                  <a:pt x="0" y="0"/>
                </a:moveTo>
                <a:lnTo>
                  <a:pt x="21600" y="0"/>
                </a:lnTo>
                <a:lnTo>
                  <a:pt x="21600" y="45591"/>
                </a:lnTo>
                <a:lnTo>
                  <a:pt x="0" y="45591"/>
                </a:lnTo>
                <a:close/>
              </a:path>
              <a:path fill="lightenLess" w="21600" h="4559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5591">
                <a:moveTo>
                  <a:pt x="21600" y="0"/>
                </a:moveTo>
                <a:lnTo>
                  <a:pt x="21600" y="45591"/>
                </a:lnTo>
                <a:lnTo>
                  <a:pt x="20200" y="44191"/>
                </a:lnTo>
                <a:lnTo>
                  <a:pt x="20200" y="1400"/>
                </a:lnTo>
                <a:close/>
              </a:path>
              <a:path fill="darkenLess" w="21600" h="45591">
                <a:moveTo>
                  <a:pt x="21600" y="45591"/>
                </a:moveTo>
                <a:lnTo>
                  <a:pt x="0" y="45591"/>
                </a:lnTo>
                <a:lnTo>
                  <a:pt x="1400" y="44191"/>
                </a:lnTo>
                <a:lnTo>
                  <a:pt x="20200" y="44191"/>
                </a:lnTo>
                <a:close/>
              </a:path>
              <a:path fill="lighten" w="21600" h="45591">
                <a:moveTo>
                  <a:pt x="0" y="45591"/>
                </a:moveTo>
                <a:lnTo>
                  <a:pt x="0" y="0"/>
                </a:lnTo>
                <a:lnTo>
                  <a:pt x="1400" y="1400"/>
                </a:lnTo>
                <a:lnTo>
                  <a:pt x="1400" y="44191"/>
                </a:lnTo>
                <a:close/>
              </a:path>
              <a:path fill="darken" w="21600" h="45591">
                <a:moveTo>
                  <a:pt x="3794" y="19488"/>
                </a:moveTo>
                <a:lnTo>
                  <a:pt x="7301" y="19488"/>
                </a:lnTo>
                <a:lnTo>
                  <a:pt x="7301" y="24824"/>
                </a:lnTo>
                <a:cubicBezTo>
                  <a:pt x="7301" y="25746"/>
                  <a:pt x="8102" y="26477"/>
                  <a:pt x="9138" y="26477"/>
                </a:cubicBezTo>
                <a:lnTo>
                  <a:pt x="10800" y="26477"/>
                </a:lnTo>
                <a:cubicBezTo>
                  <a:pt x="11836" y="26477"/>
                  <a:pt x="12636" y="25746"/>
                  <a:pt x="12636" y="24824"/>
                </a:cubicBezTo>
                <a:lnTo>
                  <a:pt x="12636" y="19488"/>
                </a:lnTo>
                <a:lnTo>
                  <a:pt x="10800" y="19488"/>
                </a:lnTo>
                <a:lnTo>
                  <a:pt x="14308" y="15981"/>
                </a:lnTo>
                <a:lnTo>
                  <a:pt x="17981" y="19488"/>
                </a:lnTo>
                <a:lnTo>
                  <a:pt x="16144" y="19488"/>
                </a:lnTo>
                <a:lnTo>
                  <a:pt x="16144" y="24824"/>
                </a:lnTo>
                <a:cubicBezTo>
                  <a:pt x="16144" y="27591"/>
                  <a:pt x="13568" y="30150"/>
                  <a:pt x="10800" y="30150"/>
                </a:cubicBezTo>
                <a:lnTo>
                  <a:pt x="9138" y="30150"/>
                </a:lnTo>
                <a:cubicBezTo>
                  <a:pt x="6370" y="30150"/>
                  <a:pt x="3794" y="27591"/>
                  <a:pt x="3794" y="24824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6T13:34:08Z</dcterms:created>
  <dc:creator>Juha Korhonen</dc:creator>
  <dc:description/>
  <dc:language>en-US</dc:language>
  <cp:lastModifiedBy>Juha Korhonen</cp:lastModifiedBy>
  <dcterms:modified xsi:type="dcterms:W3CDTF">2002-03-28T09:22:15Z</dcterms:modified>
  <cp:revision>21</cp:revision>
  <dc:subject/>
  <dc:title>Ei dian otsikkoa</dc:title>
</cp:coreProperties>
</file>